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ED9-EE2B-4AEE-AB35-EBDDBE99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E95-3250-487C-A73E-75B5BF9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BCF-CB17-4B65-A5F7-0E0267C4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051-2F0E-47E3-A2A7-8BABA4F5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F31-3A4D-4CDD-8CD8-21BF49A5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21C-4A64-46AC-81AF-BADED9B8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6C9-3747-4F9C-B3AA-395ABE2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368-5308-4174-B274-01E01B5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70D-8054-456F-9AA8-45DACB8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3CA-940F-4A1E-B080-BFF14D9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B06-5E73-4F07-8897-844CEAA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FB8-D861-45D5-AE37-97963B2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B69-BB52-41A6-9E21-30ACBEAF825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3 Oslavujme Spas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slavujme Spasite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et prišiel kvôli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naša nádej smel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Božej slávn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mrel Boží Sy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obeť za hriech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retí deň z hrobu vst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náš, slávy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zemi skončil di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al česť na výs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a naša môže sme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ieť k trónu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znej vrúcnej vďaky spev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leť v kraje nadoblač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zvenou nech všade zn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– naše spase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celom svete nech je zn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Pán Ježiš zvíťaz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 svojho m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ob i smrť on poraz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deme raz večne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i vziať nás príde v sláv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a preto nesie v dia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a pieseň vďaky, chvál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6-11T15:17:19Z</dcterms:modified>
  <cp:revision>23</cp:revision>
  <dc:subject/>
  <dc:title>Je veľký náš Pán, on slávy je Kráľ Nech do všetkých strán  spev vrúcnych znie chvál.</dc:title>
</cp:coreProperties>
</file>